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B8C-6CD6-4320-B3C2-27BED852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E59-F0FB-44DB-A489-3A54CA99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6E6-5A49-4903-87A5-B1036DA8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EC6-B8E9-4F6B-AA2D-0994FA32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274-A3A4-4FB0-847E-70961BBF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D8A-325F-4551-911A-DB3CE5E1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981-2347-41A3-AAE6-4B338896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CED-D9A2-4236-A208-8EC61680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C45-5A69-4969-AB6D-4AB796C2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612-78B3-4E3D-80AF-1D1D2796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5AD-2BB7-4C82-B2A3-A7815A8E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071-6A00-4F8C-9F4B-5A008DE2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4A53-2AF4-4A8A-B747-F22A83561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635280" cy="89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808080"/>
                </a:solidFill>
                <a:latin typeface="comic"/>
              </a:rPr>
              <a:t>23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Тези, що със сълзи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добро семе сеят,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с радост ще пожънат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горе в небеса!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Снопи те ще носят,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още и ще пеят,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и във век ще гледат </a:t>
            </a:r>
            <a:r>
              <a:rPr b="1" lang="en-US" sz="3200" spc="-1" strike="noStrike">
                <a:solidFill>
                  <a:srgbClr val="bbe0e3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славни чуд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86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84720" y="549360"/>
            <a:ext cx="385128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808080"/>
                </a:solidFill>
                <a:latin typeface="comic"/>
              </a:rPr>
              <a:t>Прип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ез, що с сълзи се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 радост ще пожъна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3280" y="158760"/>
            <a:ext cx="4356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Рано сутрин сейте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вий доброто семе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ейте, дор удари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най-последний час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Вестта разгласете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между всяко племе -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лавна ще да бъде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жетвата тога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8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84720" y="549360"/>
            <a:ext cx="385128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808080"/>
                </a:solidFill>
                <a:latin typeface="comic"/>
              </a:rPr>
              <a:t>Прип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ез, що с сълзи се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 радост ще пожъна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16360" y="-27000"/>
            <a:ext cx="4427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Щом ни Бог изпраща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ние навред ще ходим! Обещал, сполука -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ееме безспир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ой ни благославя,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ние пък Му носим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наш'те скъпоценни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ове във мир!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8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84720" y="549360"/>
            <a:ext cx="385128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808080"/>
                </a:solidFill>
                <a:latin typeface="comic"/>
              </a:rPr>
              <a:t>Прип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ез, що с сълзи се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 радост ще пожънат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снопи ще нос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2:54:12Z</dcterms:created>
  <dc:creator>TrifonTrifonow</dc:creator>
  <dc:description/>
  <dc:language>en-US</dc:language>
  <cp:lastModifiedBy>TrifonTrifonow</cp:lastModifiedBy>
  <dcterms:modified xsi:type="dcterms:W3CDTF">2005-12-01T20:35:39Z</dcterms:modified>
  <cp:revision>11</cp:revision>
  <dc:subject/>
  <dc:title>Slide 1</dc:title>
</cp:coreProperties>
</file>